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2a.wav" ContentType="audio/x-wav"/>
  <Override PartName="/ppt/media/4a.wav" ContentType="audio/x-wav"/>
  <Override PartName="/ppt/media/8a.wav" ContentType="audio/x-wav"/>
  <Override PartName="/ppt/media/image4.jpeg" ContentType="image/jpeg"/>
  <Override PartName="/ppt/media/5a.wav" ContentType="audio/x-wav"/>
  <Override PartName="/ppt/media/9a.wav" ContentType="audio/x-wav"/>
  <Override PartName="/ppt/media/7a.wav" ContentType="audio/x-wav"/>
  <Override PartName="/ppt/media/3a.wav" ContentType="audio/x-wav"/>
  <Override PartName="/ppt/media/image12.gif" ContentType="image/gif"/>
  <Override PartName="/ppt/media/image10.gif" ContentType="image/gif"/>
  <Override PartName="/ppt/media/image11.jpeg" ContentType="image/jpeg"/>
  <Override PartName="/ppt/media/image9.jpeg" ContentType="image/jpeg"/>
  <Override PartName="/ppt/media/image8.gif" ContentType="image/gif"/>
  <Override PartName="/ppt/media/image7.jpeg" ContentType="image/jpeg"/>
  <Override PartName="/ppt/media/image6.jpeg" ContentType="image/jpeg"/>
  <Override PartName="/ppt/media/6a.wav" ContentType="audio/x-wav"/>
  <Override PartName="/ppt/media/0a.wav" ContentType="audio/x-wav"/>
  <Override PartName="/ppt/media/image2.gif" ContentType="image/gif"/>
  <Override PartName="/ppt/media/image5.png" ContentType="image/png"/>
  <Override PartName="/ppt/media/image3.png" ContentType="image/png"/>
  <Override PartName="/ppt/media/image1.jpeg" ContentType="image/jpeg"/>
  <Override PartName="/ppt/media/1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E638-FD5F-4FC7-A7D4-0A6FDD4A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0AF5-21FE-40E6-B31D-AAADB064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FA82-6428-4264-9A11-25D23330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85228-A59E-4478-9F20-9E9CFB70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C917-2B94-4A9B-B3A8-21F60A72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5576-C7E8-4584-AF01-8DB44034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87EF-CFBE-4E0F-9A48-6C4F005F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110C-AB34-453A-86A4-88A7CB13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98AF-F1C3-4CFE-B3CD-1A3B7F9F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6CFD-7EA2-42F5-9587-B19B5F38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F97D-BE95-4DD0-8832-4074D9FD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7D89-7A79-467B-93AB-DF8C6BA5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938F-FBB9-4FE4-825C-B58B8DD5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C0E4-1010-491E-A386-2382BBF4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76F8-E18E-4AA3-A77C-877130DE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DE26-6AA4-4B5F-BA30-20ED3E03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8598-1449-4453-B017-B7E5EC14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4F10-0162-467D-8817-A0373E0F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3B176-F3D5-4F91-8CDE-6BBFD0B4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F865-DEAD-409B-8462-541199B5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801F-C4CC-48B7-8BA1-EBF2599D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26B5-CC7E-4205-9D11-8ABA533F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2E74-106D-40FE-BB70-D41AD6B4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DBC3-6786-4747-B0E9-4B463CF7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3161-D50E-456E-A5E7-191316A3FAA0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9235-9E73-49E9-A50D-B05B4220443F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9a.wav"/><Relationship Id="rId6" Type="http://schemas.openxmlformats.org/officeDocument/2006/relationships/audio" Target="../media/8a.wav"/><Relationship Id="rId7" Type="http://schemas.openxmlformats.org/officeDocument/2006/relationships/audio" Target="../media/7a.wav"/><Relationship Id="rId8" Type="http://schemas.openxmlformats.org/officeDocument/2006/relationships/audio" Target="../media/6a.wav"/><Relationship Id="rId9" Type="http://schemas.openxmlformats.org/officeDocument/2006/relationships/audio" Target="../media/5a.wav"/><Relationship Id="rId10" Type="http://schemas.openxmlformats.org/officeDocument/2006/relationships/audio" Target="../media/4a.wav"/><Relationship Id="rId11" Type="http://schemas.openxmlformats.org/officeDocument/2006/relationships/audio" Target="../media/3a.wav"/><Relationship Id="rId12" Type="http://schemas.openxmlformats.org/officeDocument/2006/relationships/audio" Target="../media/2a.wav"/><Relationship Id="rId13" Type="http://schemas.openxmlformats.org/officeDocument/2006/relationships/audio" Target="../media/1a.wav"/><Relationship Id="rId14" Type="http://schemas.openxmlformats.org/officeDocument/2006/relationships/audio" Target="../media/0a.wav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05720" y="0"/>
            <a:ext cx="2361960" cy="2895480"/>
          </a:xfrm>
          <a:prstGeom prst="ellipse">
            <a:avLst/>
          </a:prstGeom>
          <a:solidFill>
            <a:srgbClr val="ffffff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محافظه الفيوم</a:t>
            </a: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ادارة طاميه</a:t>
            </a: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مدرسه كوم اوشيم 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4419720"/>
            <a:ext cx="67532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عداد أ / مروه ممدوح       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2362320" cy="3124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14400" y="5410080"/>
            <a:ext cx="5943600" cy="144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914400" y="1522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بسم الله الرحمن الرحي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80240" y="5783400"/>
            <a:ext cx="146376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llegro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llegro"/>
              <a:ea typeface="Allegro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61160" y="4595760"/>
            <a:ext cx="1422360" cy="22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llegro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llegro"/>
              <a:ea typeface="Allegro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91400" y="4519440"/>
            <a:ext cx="1336680" cy="22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llegro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llegro"/>
              <a:ea typeface="Allegro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72320" y="6157800"/>
            <a:ext cx="129564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llegro"/>
              </a:rPr>
              <a:t>9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llegro"/>
              <a:ea typeface="Allegro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67560" y="6156360"/>
            <a:ext cx="13813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llegro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llegro"/>
              <a:ea typeface="Allegro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39200" y="4595760"/>
            <a:ext cx="1380960" cy="22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llegro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llegro"/>
              <a:ea typeface="Allegro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40640" y="4748040"/>
            <a:ext cx="1380960" cy="19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llegro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llegro"/>
              <a:ea typeface="Allegro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61160" y="4672080"/>
            <a:ext cx="1422360" cy="19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llegro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llegro"/>
              <a:ea typeface="Allegro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711920" y="4672080"/>
            <a:ext cx="138132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llegro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llegro"/>
              <a:ea typeface="Allegro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91400" y="4824360"/>
            <a:ext cx="133668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llegro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llegro"/>
              <a:ea typeface="Allegro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957320" y="2286000"/>
            <a:ext cx="5229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اكبر الرحلات في اصغر المسافات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9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8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7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5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6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4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8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2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9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1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10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970640"/>
            <a:ext cx="9144000" cy="503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8 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ما وظيفه كل عضو من اعضاء الجهاز الهضمي في الانسان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9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كيف يمكنك الحفاظ علي جهازك الهضمي ضد الامراض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10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ما اسباب الاصابه ببعض الامراض المعديه في مصر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04920"/>
            <a:ext cx="8381880" cy="1395360"/>
          </a:xfrm>
          <a:prstGeom prst="cloudCallout">
            <a:avLst>
              <a:gd name="adj1" fmla="val 15777"/>
              <a:gd name="adj2" fmla="val 96643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omic Sans MS"/>
              </a:rPr>
              <a:t>من خلال  هذه الوحده يمكنك الاجابه علي الاسئله التاليه</a:t>
            </a:r>
            <a:r>
              <a:rPr b="1" lang="ar-EG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100" spc="-1" strike="noStrike">
                <a:solidFill>
                  <a:srgbClr val="ffffff"/>
                </a:solidFill>
                <a:latin typeface="Arial"/>
              </a:rPr>
              <a:t>فى مجموعات : أجب عن الاسئلة الاتيه</a:t>
            </a:r>
            <a:r>
              <a:rPr b="1" lang="ar-EG" sz="5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5029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 fontScale="82000"/>
          </a:bodyPr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ما يتركب الجهاز الهضمي في الانسا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ا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فرق بين اعضاء الجهاز الهضمي والغددد الملحقه به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اذا نعني بمفهوم الهضم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اذا نعني بمفهوم الامتصاص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ا اسباب الاصابه بامراض الجهاز الهضمي في الانسان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كيف يمكنك تجنب الاصابه بامراض الجهاز الهضمي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ا دور في التوعيه باهميه المحافظه علي سلامه وصحه جهازك الهضمي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8288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700" spc="-1" strike="noStrike">
                <a:solidFill>
                  <a:srgbClr val="ffffff"/>
                </a:solidFill>
                <a:latin typeface="Arial"/>
              </a:rPr>
              <a:t>اسباب الاصابه بالامراض المعديه في المناطق النائيه والعشوائيه بمصر 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600" y="2286000"/>
            <a:ext cx="8686800" cy="45720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ما الامراض الناتجه عن اهمال الانسان لنظافته الشخصيه ونظافه البيئه التي يعيش فيها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ماذا تعرف عن اسباب الاصابه بدوده الانكلستوما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ما الطورالمعدي الذي يصيب الانسان ويجدد دورة حياة الدودة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كيف يمكنك تجنب الاصابه بدودة الانكلستوما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300" spc="-1" strike="noStrike">
                <a:solidFill>
                  <a:srgbClr val="ffffff"/>
                </a:solidFill>
                <a:latin typeface="Arial"/>
              </a:rPr>
              <a:t>تابع انتشار الاصابه بالامراض المعديه في مصر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8769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هل </a:t>
            </a:r>
            <a:r>
              <a:rPr b="0" lang="ar-EG" sz="3200" spc="-1" strike="noStrike">
                <a:solidFill>
                  <a:srgbClr val="000066"/>
                </a:solidFill>
                <a:latin typeface="Arial"/>
              </a:rPr>
              <a:t>للوعي الثقافي والاجتماعي والبيئي  دور في الحد من انتشار الامراض المعديه في المناطق النائيه والعشوائيه بمصر</a:t>
            </a: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66"/>
                </a:solidFill>
                <a:latin typeface="Arial"/>
              </a:rPr>
              <a:t>هل يؤثر الاصابه بالامراض المعديه علي مستوي الانتاج في مصر</a:t>
            </a: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66"/>
                </a:solidFill>
                <a:latin typeface="Arial"/>
              </a:rPr>
              <a:t>كيف يمكن الحد من انتشار هذه الظاهره والقضاء علي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66"/>
                </a:solidFill>
                <a:latin typeface="Arial"/>
              </a:rPr>
              <a:t>ما دورك في التوعيه  للحد من انتشار هذه الامراض بالمنطقه التي تعيش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كيف يمكنك </a:t>
            </a:r>
            <a:r>
              <a:rPr b="0" lang="ar-EG" sz="3200" spc="-1" strike="noStrike">
                <a:solidFill>
                  <a:srgbClr val="000066"/>
                </a:solidFill>
                <a:latin typeface="Arial"/>
              </a:rPr>
              <a:t>الحد من </a:t>
            </a: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هذه الظاهرة ؟ صف دورك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973080"/>
            <a:ext cx="9144000" cy="276084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Comic Sans MS"/>
              </a:rPr>
              <a:t>ما الاشياء الضروريه لحياتك علي الارض ؟</a:t>
            </a:r>
            <a:r>
              <a:rPr b="0" lang="ar-EG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895480" y="3962520"/>
            <a:ext cx="42674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7981920" cy="4392720"/>
          </a:xfrm>
          <a:prstGeom prst="cloudCallout">
            <a:avLst>
              <a:gd name="adj1" fmla="val 20384"/>
              <a:gd name="adj2" fmla="val 55527"/>
            </a:avLst>
          </a:prstGeom>
          <a:solidFill>
            <a:srgbClr val="990099"/>
          </a:solidFill>
          <a:ln w="0">
            <a:noFill/>
          </a:ln>
          <a:effectLst>
            <a:outerShdw dist="153753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Comic Sans MS"/>
              </a:rPr>
              <a:t>ما الذي يمدك بالطاقة لكي تعيش وتقوم بجميع الاشياء المطلوبه منك 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304920" y="4343400"/>
            <a:ext cx="3962520" cy="2438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858000" y="3505320"/>
            <a:ext cx="22860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74640" y="762120"/>
            <a:ext cx="7417080" cy="3024000"/>
          </a:xfrm>
          <a:prstGeom prst="can">
            <a:avLst>
              <a:gd name="adj" fmla="val 23046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000066"/>
                </a:solidFill>
                <a:latin typeface="Comic Sans MS"/>
              </a:rPr>
              <a:t>ما انواع الطعام الذي تأكله ؟</a:t>
            </a:r>
            <a:r>
              <a:rPr b="0" lang="en-US" sz="60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 flipH="1">
            <a:off x="-609480" y="76320"/>
            <a:ext cx="266688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5638680"/>
          </a:xfrm>
          <a:prstGeom prst="rect">
            <a:avLst/>
          </a:prstGeom>
          <a:noFill/>
          <a:ln w="38160">
            <a:solidFill>
              <a:srgbClr val="ffffff"/>
            </a:solidFill>
            <a:prstDash val="lgDashDot"/>
            <a:miter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Arial"/>
              </a:rPr>
              <a:t>ما الذي يمدك بالطاقه اللازمه للقيام بالانشطه المختلفه 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Arial"/>
              </a:rPr>
              <a:t>ما انواع الاغذيه التي تتناولها 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Arial"/>
              </a:rPr>
              <a:t>كيف يمكن لجسمك الاستفاده من الطعام الذي تتناوله 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spcBef>
                <a:spcPts val="1349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Arial"/>
              </a:rPr>
              <a:t>ماذا نقصد بمقوله الاكل اتهضم ؟</a:t>
            </a: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900" spc="-1" strike="noStrike">
                <a:solidFill>
                  <a:srgbClr val="000000"/>
                </a:solidFill>
                <a:latin typeface="Arial"/>
              </a:rPr>
              <a:t>أكتب ما تعرفه عن ....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prstDash val="sysDot"/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تركيب جسم الانسا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انواع الغذاء 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مفهوم الهضم 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مفهوم الامتصاص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الفرق بين العضو والغده 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 امراض الجهاز الهضمي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66"/>
                </a:solidFill>
                <a:latin typeface="Arial"/>
              </a:rPr>
              <a:t>طرق المحافظه علي صحه الجهاز الهضمي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457200"/>
            <a:ext cx="7596000" cy="5791320"/>
          </a:xfrm>
          <a:prstGeom prst="downArrowCallout">
            <a:avLst>
              <a:gd name="adj1" fmla="val 26065"/>
              <a:gd name="adj2" fmla="val 30574"/>
              <a:gd name="adj3" fmla="val 23116"/>
              <a:gd name="adj4" fmla="val 53764"/>
            </a:avLst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من خلال الرحلة التى سنقوم بها</a:t>
            </a: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.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حاول أن تجيب على الأسئلة السابقة بنفس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38080" y="3222720"/>
            <a:ext cx="716292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Verdana"/>
              </a:rPr>
              <a:t>من هم المسافرين في هذه الرحلة ؟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281480"/>
            <a:ext cx="9144000" cy="12812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Verdana"/>
              </a:rPr>
              <a:t>من هي الاماكن التي يمر بها المسافرين في هذه الرحلة ؟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686560"/>
            <a:ext cx="8382240" cy="838080"/>
          </a:xfrm>
          <a:custGeom>
            <a:avLst/>
            <a:gdLst>
              <a:gd name="textAreaLeft" fmla="*/ 0 w 8382240"/>
              <a:gd name="textAreaRight" fmla="*/ 8382240 w 838224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Verdana"/>
              </a:rPr>
              <a:t>ما هي مستلزمات القيام بهذه الرحلة ؟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81080"/>
            <a:ext cx="8893080" cy="1198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Verdana"/>
              </a:rPr>
              <a:t>ما اكبر رحله ممكن ان تتم في اصغر مسافه يوميا؟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76320" y="1959480"/>
            <a:ext cx="9144000" cy="5031720"/>
          </a:xfrm>
          <a:prstGeom prst="rect">
            <a:avLst/>
          </a:prstGeom>
          <a:noFill/>
          <a:ln cap="rnd" w="19080">
            <a:solidFill>
              <a:srgbClr val="000066"/>
            </a:solidFill>
            <a:custDash>
              <a:ds d="100000" sp="1000"/>
            </a:custDash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1- </a:t>
            </a:r>
            <a:r>
              <a:rPr b="1" lang="ar-SY" sz="3600" spc="-1" strike="noStrike">
                <a:solidFill>
                  <a:srgbClr val="000066"/>
                </a:solidFill>
                <a:latin typeface="Comic Sans MS"/>
              </a:rPr>
              <a:t>لماذا سمي الجهاز الهضمي بهذا الاسم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2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عرف عملية الهضم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66"/>
                </a:solidFill>
                <a:latin typeface="Comic Sans MS"/>
              </a:rPr>
              <a:t>3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مما يتكون جهازك الهضمي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4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ما الفرق بين اعضاء الجهاز الهضمي والغدد الملحقه به ؟</a:t>
            </a:r>
            <a:r>
              <a:rPr b="1" i="1" lang="ar-EG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3600" spc="-1" strike="noStrike">
                <a:solidFill>
                  <a:srgbClr val="000066"/>
                </a:solidFill>
                <a:latin typeface="Comic Sans MS"/>
              </a:rPr>
              <a:t>5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قارن بين مكونات القناة الهضمية والغدد الملحقة بالقناة الهضمية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7- </a:t>
            </a:r>
            <a:r>
              <a:rPr b="1" lang="ar-EG" sz="3600" spc="-1" strike="noStrike">
                <a:solidFill>
                  <a:srgbClr val="000066"/>
                </a:solidFill>
                <a:latin typeface="Comic Sans MS"/>
              </a:rPr>
              <a:t>ما الفرق بين الهضم والامتصاص ؟</a:t>
            </a:r>
            <a:r>
              <a:rPr b="0" lang="ar-EG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-76320"/>
            <a:ext cx="9144000" cy="2028960"/>
          </a:xfrm>
          <a:prstGeom prst="cloudCallout">
            <a:avLst>
              <a:gd name="adj1" fmla="val 29810"/>
              <a:gd name="adj2" fmla="val 52740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من خلال  هذه الوحده يمكنك الاجابه علي الاسئله التاليه</a:t>
            </a:r>
            <a:r>
              <a:rPr b="0" lang="ar-EG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lo</cp:lastModifiedBy>
  <dcterms:modified xsi:type="dcterms:W3CDTF">2007-12-01T19:42:4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